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heep.wav" ContentType="audio/x-wav"/>
  <Override PartName="/ppt/media/image4.png" ContentType="image/png"/>
  <Override PartName="/ppt/media/image14.gif" ContentType="image/gif"/>
  <Override PartName="/ppt/media/image13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324-30CE-4019-87A3-03D665EF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023-A631-4F83-B1B0-EFF6A1F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033-C6CD-425A-8462-03836FF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338-1957-4DCE-A271-975B4875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30F-28D7-4EBE-BF9B-A302B7FF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B95-94BC-4C7A-8524-457E518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AF6-7F33-4650-A190-1DC3047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DD2-C09D-47D5-8F1B-C5FDE89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6581-8BE3-405C-BE58-7BE55D2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5E5-DF5F-4DEF-9C5F-E0AD7651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3A0-DF39-4A61-A08E-7E200A29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B55-3276-457D-874A-9FFAE81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07B-5EA1-4204-ABC7-2216EDF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59A1-C0F0-4691-A664-AD52BA45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62A8-7FC2-4BAB-A7D3-1028FD2A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D02B-D11A-4F3D-9861-A845A40A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FDCC-A6CE-4ECF-9448-B8740C25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BD7-9DB8-4064-B537-568CA42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12A-C843-4A0A-A3B8-20A41F7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BA7-0996-4A0F-9B59-C118567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2C7-4466-4B11-88A1-050E7254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3E1-4D36-40D7-B83A-00323F4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359-B618-4B43-A40E-3CCBFD9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EA2-57C1-4805-9E10-18C57B4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F900-1A6C-49D6-9075-A044C59D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DCF9-D36A-4E3D-A51A-770EF69D8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shee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Plural and Singular Nou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ct LA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become a new word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gee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6" descr="goosefam"/>
          <p:cNvPicPr/>
          <p:nvPr/>
        </p:nvPicPr>
        <p:blipFill>
          <a:blip r:embed="rId1"/>
          <a:stretch/>
        </p:blipFill>
        <p:spPr>
          <a:xfrm>
            <a:off x="3581280" y="3962520"/>
            <a:ext cx="3124440" cy="2392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man-think"/>
          <p:cNvPicPr/>
          <p:nvPr/>
        </p:nvPicPr>
        <p:blipFill>
          <a:blip r:embed="rId2"/>
          <a:stretch/>
        </p:blipFill>
        <p:spPr>
          <a:xfrm>
            <a:off x="5181480" y="1447920"/>
            <a:ext cx="2067120" cy="247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an-think"/>
          <p:cNvPicPr/>
          <p:nvPr/>
        </p:nvPicPr>
        <p:blipFill>
          <a:blip r:embed="rId3"/>
          <a:stretch/>
        </p:blipFill>
        <p:spPr>
          <a:xfrm>
            <a:off x="2819520" y="1486080"/>
            <a:ext cx="2057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o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ous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re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a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486400" y="3290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ry the EGG-cellent Plural Game.  Close the game to return to this slid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clickherenow"/>
          <p:cNvPicPr/>
          <p:nvPr/>
        </p:nvPicPr>
        <p:blipFill>
          <a:blip r:embed="rId1"/>
          <a:stretch/>
        </p:blipFill>
        <p:spPr>
          <a:xfrm>
            <a:off x="1523880" y="3809880"/>
            <a:ext cx="2057400" cy="90828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5"/>
          <p:cNvSpPr/>
          <p:nvPr/>
        </p:nvSpPr>
        <p:spPr>
          <a:xfrm>
            <a:off x="4572000" y="365760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8" name="Picture 6" descr="logo-projectla1"/>
          <p:cNvPicPr/>
          <p:nvPr/>
        </p:nvPicPr>
        <p:blipFill>
          <a:blip r:embed="rId2"/>
          <a:stretch/>
        </p:blipFill>
        <p:spPr>
          <a:xfrm>
            <a:off x="5029200" y="3714840"/>
            <a:ext cx="762120" cy="7048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7"/>
          <p:cNvSpPr/>
          <p:nvPr/>
        </p:nvSpPr>
        <p:spPr>
          <a:xfrm>
            <a:off x="4800600" y="4327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lural Nou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A plural form of a noun names more than one.  It usually ends with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AutoShape 11">
            <a:hlinkClick r:id="" action="ppaction://hlinkshowjump?jump=nextslide"/>
          </p:cNvPr>
          <p:cNvSpPr/>
          <p:nvPr/>
        </p:nvSpPr>
        <p:spPr>
          <a:xfrm>
            <a:off x="6248520" y="2590920"/>
            <a:ext cx="2057400" cy="205740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553080" y="33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S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 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1" descr="check1x"/>
          <p:cNvPicPr/>
          <p:nvPr/>
        </p:nvPicPr>
        <p:blipFill>
          <a:blip r:embed="rId1"/>
          <a:stretch/>
        </p:blipFill>
        <p:spPr>
          <a:xfrm>
            <a:off x="5943600" y="3200400"/>
            <a:ext cx="17715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x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nc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1828800" y="2133720"/>
            <a:ext cx="3808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1752480" y="3429000"/>
            <a:ext cx="38124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2133720" y="46483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1676520" y="59436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consonant and a 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d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ad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295280" y="1523880"/>
            <a:ext cx="685800" cy="609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990720" y="403848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8" descr="fries"/>
          <p:cNvPicPr/>
          <p:nvPr/>
        </p:nvPicPr>
        <p:blipFill>
          <a:blip r:embed="rId1"/>
          <a:stretch/>
        </p:blipFill>
        <p:spPr>
          <a:xfrm>
            <a:off x="3048120" y="3809880"/>
            <a:ext cx="3276360" cy="196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LADIES"/>
          <p:cNvPicPr/>
          <p:nvPr/>
        </p:nvPicPr>
        <p:blipFill>
          <a:blip r:embed="rId2"/>
          <a:stretch/>
        </p:blipFill>
        <p:spPr>
          <a:xfrm>
            <a:off x="3276720" y="1447920"/>
            <a:ext cx="201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l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al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ni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523880" y="1447920"/>
            <a:ext cx="381240" cy="60948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600200" y="39625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8" descr="calf"/>
          <p:cNvPicPr/>
          <p:nvPr/>
        </p:nvPicPr>
        <p:blipFill>
          <a:blip r:embed="rId1"/>
          <a:stretch/>
        </p:blipFill>
        <p:spPr>
          <a:xfrm>
            <a:off x="3733920" y="1676520"/>
            <a:ext cx="3400200" cy="249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knife"/>
          <p:cNvPicPr/>
          <p:nvPr/>
        </p:nvPicPr>
        <p:blipFill>
          <a:blip r:embed="rId2"/>
          <a:stretch/>
        </p:blipFill>
        <p:spPr>
          <a:xfrm>
            <a:off x="3886200" y="4241880"/>
            <a:ext cx="35053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.  Some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angaro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ta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743200" y="54864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4" name="Picture 8" descr="kangaroo"/>
          <p:cNvPicPr/>
          <p:nvPr/>
        </p:nvPicPr>
        <p:blipFill>
          <a:blip r:embed="rId1"/>
          <a:stretch/>
        </p:blipFill>
        <p:spPr>
          <a:xfrm>
            <a:off x="4800600" y="1295280"/>
            <a:ext cx="2971800" cy="2602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4495680" y="1219320"/>
            <a:ext cx="1067040" cy="533160"/>
          </a:xfrm>
          <a:prstGeom prst="rect">
            <a:avLst/>
          </a:prstGeom>
          <a:solidFill>
            <a:srgbClr val="6e7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3124080" y="3048120"/>
            <a:ext cx="60984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12" descr="potato1"/>
          <p:cNvPicPr/>
          <p:nvPr/>
        </p:nvPicPr>
        <p:blipFill>
          <a:blip r:embed="rId2"/>
          <a:stretch/>
        </p:blipFill>
        <p:spPr>
          <a:xfrm>
            <a:off x="4724280" y="4557600"/>
            <a:ext cx="25146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do not change at all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9" descr="sheep-big"/>
          <p:cNvPicPr/>
          <p:nvPr/>
        </p:nvPicPr>
        <p:blipFill>
          <a:blip r:embed="rId1"/>
          <a:stretch/>
        </p:blipFill>
        <p:spPr>
          <a:xfrm>
            <a:off x="4267080" y="2133720"/>
            <a:ext cx="2381400" cy="19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eer"/>
          <p:cNvPicPr/>
          <p:nvPr/>
        </p:nvPicPr>
        <p:blipFill>
          <a:blip r:embed="rId2"/>
          <a:stretch/>
        </p:blipFill>
        <p:spPr>
          <a:xfrm>
            <a:off x="3200400" y="4267080"/>
            <a:ext cx="274320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01:32:27Z</dcterms:created>
  <dc:creator>Jefferson County Schools</dc:creator>
  <dc:description/>
  <dc:language>en-US</dc:language>
  <cp:lastModifiedBy>teacher</cp:lastModifiedBy>
  <dcterms:modified xsi:type="dcterms:W3CDTF">2010-10-08T17:49:09Z</dcterms:modified>
  <cp:revision>7</cp:revision>
  <dc:subject/>
  <dc:title>Plural and Singular Nouns</dc:title>
</cp:coreProperties>
</file>